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whoosh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914-90EA-4FE0-93E1-714DE178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169-50A6-4731-B50E-A3DC2CEB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05E-7993-4DCE-90FF-2D7BB436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905-D3FE-47B8-82C9-107FBD66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268-2302-44C9-903E-0B5A12EB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D32-0D2C-4094-9020-D552F0B6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AAF-632A-4CDC-894D-9EA90889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7A9-6DBD-4E9E-BD55-1A49B793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5E8-654C-443F-8CD3-495FD0C9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CED-9392-46C4-8675-9E6EC129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8F8-166C-4745-88E2-3FB0742D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301-C0F8-443C-8CCB-12BCE785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CC87-F2BF-4020-84C6-A13C2EF3D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6.gif"/><Relationship Id="rId9" Type="http://schemas.openxmlformats.org/officeDocument/2006/relationships/image" Target="../media/image8.gif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6.gif"/><Relationship Id="rId9" Type="http://schemas.openxmlformats.org/officeDocument/2006/relationships/image" Target="../media/image8.gif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3429000"/>
            <a:ext cx="563868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Quelle heure est-i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21276600">
            <a:off x="6324480" y="1218960"/>
            <a:ext cx="2419560" cy="1555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217620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90720" y="1295280"/>
            <a:ext cx="1428480" cy="169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8153280" y="22860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620120" y="4038480"/>
            <a:ext cx="1009440" cy="19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80880" y="228600"/>
            <a:ext cx="676440" cy="676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7600" y="57913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ladimir Script"/>
              </a:rPr>
              <a:t>Dimi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2133720" y="5943600"/>
            <a:ext cx="1828800" cy="57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76201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huit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05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euf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90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dix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0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2296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8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onze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1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7724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douze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0010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600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mid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7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minu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4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7724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900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treize heure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une he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81080"/>
            <a:ext cx="4267440" cy="1447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2133720"/>
            <a:ext cx="38102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13372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4419720"/>
            <a:ext cx="426744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4648320"/>
            <a:ext cx="38102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457200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3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22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quatorze heure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deux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81080"/>
            <a:ext cx="4267440" cy="1447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133720"/>
            <a:ext cx="38102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213372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4419720"/>
            <a:ext cx="426744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4648320"/>
            <a:ext cx="38102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457200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4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059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360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deux heures cinq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: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100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28800" y="3429000"/>
            <a:ext cx="563868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Quelle heure est-i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 rot="21276600">
            <a:off x="6324480" y="1218960"/>
            <a:ext cx="2419560" cy="1555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2176200" cy="2590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990720" y="1295280"/>
            <a:ext cx="1428480" cy="1695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8153280" y="22860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620120" y="4038480"/>
            <a:ext cx="100944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380880" y="228600"/>
            <a:ext cx="676440" cy="676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57600" y="57913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ladimir Script"/>
              </a:rPr>
              <a:t>Dimi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133720" y="5943600"/>
            <a:ext cx="1828800" cy="57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76201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euf heures di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: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05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60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huit heures quinze.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huit heures et qu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8: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500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six heures ving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:2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600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cinq heures vingt-cinq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5:2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600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onze heures trente.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onze heures et dem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1:3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9000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sept heures trente-cinq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huit heures moins vingt-cinq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:3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924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27000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dix heures quarant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onze heures moins ving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0:4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4582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2200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trois heures quarante-cinq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quatre heures moins le qua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:4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9000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quatre heures cinquant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cinq heures moins di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:5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2296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3000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douze heures cinquante-cinq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une heure moins cinq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: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534520" y="68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700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une he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48720" y="380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0773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8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deux heures douz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: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848720" y="609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500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28800" y="3429000"/>
            <a:ext cx="563868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 rot="21276600">
            <a:off x="6724800" y="380520"/>
            <a:ext cx="2419200" cy="1555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2176200" cy="2590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762120" y="609480"/>
            <a:ext cx="1428480" cy="1695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7086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5000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deux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2388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9246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trois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380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0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quatre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54380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1532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cinq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5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9608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8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six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9246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sept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0:00:31Z</dcterms:created>
  <dc:creator>pdimick</dc:creator>
  <dc:description/>
  <dc:language>en-US</dc:language>
  <cp:lastModifiedBy>Phyllis</cp:lastModifiedBy>
  <dcterms:modified xsi:type="dcterms:W3CDTF">2009-11-01T11:14:47Z</dcterms:modified>
  <cp:revision>16</cp:revision>
  <dc:subject/>
  <dc:title>Quelle heure est-il?</dc:title>
</cp:coreProperties>
</file>